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2343-D286-467F-A7D4-08073276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2480-154C-4243-9EA5-A8419C78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F064-B940-4B42-8422-62E12F87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FD22-CE0D-4208-BA4C-AADEAF1A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7145-17EA-49A3-96B0-F1612E5D1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DE4D-9412-45A3-BF1B-52DB322F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3D63-AB33-4D7F-A292-71E1195B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093D-AD9F-41D6-9449-665CDF2F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8C05-2317-4A25-AD39-946CF88A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A6B6-5BD8-4DCB-B65B-E4EB83C7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73C5-E5A4-481E-AD3C-DF9507C1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4CD1-AACE-4086-B046-CCF9B4D5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0D22-E1CD-498A-B2F0-5E8E999A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ABDD-ECE0-41E2-A92E-1398019F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794C-9F2F-4F57-B367-A72C26C6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E0F7-8554-40CF-B46C-7C0222D7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D644-F821-4129-8374-F5342E84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6946-02DA-41A0-BA2C-6CBABEA0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79B3-FC73-4FAE-91E3-64635291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397A-A3B3-4538-A53B-E6473020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A818-1A82-491C-B022-CB1A6F74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6B68-3690-42C7-B17D-70686ABB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91E0-0697-4F7D-A0F4-C0B486C8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D4C-F871-41E4-BBF6-D72A295A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50D3-1FC9-4A2C-87BA-8EA01AD986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310F-CD1D-4533-8347-37B1BDE643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../ProjectsCE114/ce114_creating_a_learning_environment_revised.pp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cdevelopment.wikispaces.com/Unit+3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e9ce8"/>
                </a:solidFill>
                <a:latin typeface="Arial"/>
              </a:rPr>
              <a:t>CE114 Unit 3: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  Physical and Motor Development of the Infant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l free to chat with each other.  We will begin short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arly Identification and Interven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early identification of developmental delays or special needs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can Early Childhood Professionals play a role in identification and interven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toddler.jpg"/>
          <p:cNvPicPr/>
          <p:nvPr/>
        </p:nvPicPr>
        <p:blipFill>
          <a:blip r:embed="rId1"/>
          <a:stretch/>
        </p:blipFill>
        <p:spPr>
          <a:xfrm>
            <a:off x="2895480" y="4038480"/>
            <a:ext cx="33339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ekly Remind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re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Web Resources (2 slidesh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quality responses to BOTH discussion question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support your response with material from the text if possible!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respond to at least 2-3 of your classmates’ posts per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 seminar OR complete Option 2 for semi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Project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the Learning Enviro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nit 3 Proje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alysis of the Learning Environm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he PowerPoint presentation "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Creating a Learning Environ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, along with information from our unit readings, describe various aspects of the learning environ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1- to 2-page paper analyzing what constitutes an ideal learning environment, including the role that both nurture and nature pl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5- to 7-slide PowerPoint (not including the title slide and reference slide) analyzing what constitutes an ideal learning environment, including the role that both nurture and nature 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s are posted within the course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, J.K., &amp; Puckett, M.P., (2009)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Young Child: Development from prebirth through age eight.  Fourth Edit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Upper Saddle River, NJ:  Pearson Education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night’s Quo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Kids go where there is excitement. They stay where there is love.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g Zig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C:\Documents and Settings\Owner\Local Settings\Temporary Internet Files\Content.IE5\4UD0ES2O\MPj04424980000[1].jpg"/>
          <p:cNvPicPr/>
          <p:nvPr/>
        </p:nvPicPr>
        <p:blipFill>
          <a:blip r:embed="rId1"/>
          <a:stretch/>
        </p:blipFill>
        <p:spPr>
          <a:xfrm>
            <a:off x="304920" y="4038480"/>
            <a:ext cx="1779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urse Checkli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5" name="Picture 4" descr="checklist.jpg"/>
          <p:cNvPicPr/>
          <p:nvPr/>
        </p:nvPicPr>
        <p:blipFill>
          <a:blip r:embed="rId1"/>
          <a:stretch/>
        </p:blipFill>
        <p:spPr>
          <a:xfrm>
            <a:off x="838080" y="1905120"/>
            <a:ext cx="682020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ature vs. Nurture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9999"/>
                </a:solidFill>
                <a:latin typeface="Arial"/>
              </a:rPr>
              <a:t>The age-long debate about how and why people do the things they d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Na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and development are controlled primarily by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urationist Perspective (Ges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9ce8"/>
                </a:solidFill>
                <a:latin typeface="Arial"/>
              </a:rPr>
              <a:t>Nur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and development can be influenced largely by a person’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ist Perspective (Bandura, Skinner, Wat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al Interactionist Perspective (Piag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al Perspective (Sameroff &amp; Chand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 Perspective (Gottli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ckett &amp; Black, p. 113-1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tterns in Growth and Develop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phalocaudal and proximodistal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growth and development proceed from the head downward and from the central axis of the body outwa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st children development follows a similar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dictable patte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 sequence of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ical  or sensitive peri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growth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do ha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vidual r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growth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ckett &amp; Black, p. 115-1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velopmental Milestones for Infa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Growth and development during the first year are both dramatic and significant” </a:t>
            </a:r>
            <a:r>
              <a:rPr b="0" i="1" lang="en-US" sz="2000" spc="-1" strike="noStrike">
                <a:solidFill>
                  <a:srgbClr val="808080"/>
                </a:solidFill>
                <a:latin typeface="Arial"/>
              </a:rPr>
              <a:t>(Puckett &amp; Black, p. 1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rth to 3 mon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– 6 mon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 – 9 mon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 – 12 mon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Please refer to Table 5.4 on p.135 of our book to view important milestones for these age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creased mobility = Increased Psychosocial Develop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first infant’s reactions are </a:t>
            </a: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reflex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As they gain control over more of their body their reactions become more </a:t>
            </a: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purposefu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es this affect how they interact with others and with objects in their environme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ckett &amp; Black, p. 136-1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ajor factors that influence physical and motor developmen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Nature (heredity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rth w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llness/medical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e9ce8"/>
                </a:solidFill>
                <a:latin typeface="Arial"/>
              </a:rPr>
              <a:t>Nurture (environment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cal environment (room to explo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oeconomic circumst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ltural dif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ckett &amp; Black, p. 137-1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ield Trip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 to class Wikisp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ecdevelopment.wikispaces.com/Unit+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ck out assigned link(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urn to the seminar when prompted prepared to share with classm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C:\Documents and Settings\Owner\Local Settings\Temporary Internet Files\Content.IE5\EU11PMYS\MPj04423370000[1].jpg"/>
          <p:cNvPicPr/>
          <p:nvPr/>
        </p:nvPicPr>
        <p:blipFill>
          <a:blip r:embed="rId2"/>
          <a:stretch/>
        </p:blipFill>
        <p:spPr>
          <a:xfrm>
            <a:off x="5257800" y="152280"/>
            <a:ext cx="23004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01:16:01Z</dcterms:created>
  <dc:creator> </dc:creator>
  <dc:description/>
  <dc:language>en-US</dc:language>
  <cp:lastModifiedBy>Joyce Jones</cp:lastModifiedBy>
  <dcterms:modified xsi:type="dcterms:W3CDTF">2010-12-16T16:47:42Z</dcterms:modified>
  <cp:revision>14</cp:revision>
  <dc:subject/>
  <dc:title>CE114 Unit 3:  Physical and Motor Development of the Infant</dc:title>
</cp:coreProperties>
</file>